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87B7-E7DB-4F64-AF7F-A36FF4641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321B-0311-4EE1-8780-EAC696A06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7857-DCE8-4429-817D-FBEF0E3BF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B71B-6FB9-49F3-8EDC-7FCE0435C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EDDD-52EE-4CA8-B885-82EEA6607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8B08-6AB4-4DEE-A654-975A2A7E6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9409-1E13-4BB5-90E3-8814F39F9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14EB-B2FF-4D32-85F8-DE08A77B8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F003-BB4F-4734-868C-139996E04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70B9-7E15-47B8-8F6D-0A48AC021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B39D-B82F-487F-974E-91D43790F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5697-16C5-4529-B512-928BCA7F6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F92-C0D3-4EA9-94AC-9CE4116217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63FA-E415-4FF7-89CB-255DAC376D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Deb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Mary F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…Responding to Students in 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47B7-34C6-4880-B339-B8E5B82938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00400" y="3657600"/>
            <a:ext cx="3429000" cy="1676520"/>
          </a:xfrm>
          <a:prstGeom prst="cloudCallout">
            <a:avLst>
              <a:gd name="adj1" fmla="val -73842"/>
              <a:gd name="adj2" fmla="val -4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if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otmocracy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olutions from the Math Congress, look for evidence of multiplicative thinking, generalizations and multiple represent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2271-726A-41EF-BBE6-9C01FBE048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19810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5000"/>
          </a:bodyPr>
          <a:p>
            <a:pPr marL="32508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table, discuss any changes you would make to your previously constructed success criteria now that you had the opportunity to engage in the Math Congres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482-1849-4DBC-80A2-1ED61B9AF3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94EC-2BCB-430B-BEAC-35F79C8C96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4920" y="4114800"/>
            <a:ext cx="586764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uccess criteria which would help you provide descriptive feedback over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0A2E-F6CF-4F03-AF15-C4B09A286D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30" name="Content Placeholder 2"/>
          <p:cNvSpPr/>
          <p:nvPr/>
        </p:nvSpPr>
        <p:spPr>
          <a:xfrm>
            <a:off x="1905120" y="1447920"/>
            <a:ext cx="4876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x3 grid of squares wit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429000" y="1295280"/>
            <a:ext cx="1143000" cy="990720"/>
            <a:chOff x="3429000" y="1295280"/>
            <a:chExt cx="1143000" cy="990720"/>
          </a:xfrm>
        </p:grpSpPr>
        <p:sp>
          <p:nvSpPr>
            <p:cNvPr id="132" name=""/>
            <p:cNvSpPr/>
            <p:nvPr/>
          </p:nvSpPr>
          <p:spPr>
            <a:xfrm>
              <a:off x="342900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112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1625400"/>
              <a:ext cx="380880" cy="33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988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and Algebra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B328-DD3C-4C81-A2DC-D2C561505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Clapping Activity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2B3B-093E-4E48-A51F-813A43542C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92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ove is a 4 dot triangle where each side has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ts.  It is made using a total of 9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next triangle is a 6 dot triangle.  It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tal of 15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many dots would you need altogether f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00 dot triang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20A0-0A50-4235-8E16-C30191A268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2514600" y="2286000"/>
            <a:ext cx="1092240" cy="1041480"/>
            <a:chOff x="2514600" y="2286000"/>
            <a:chExt cx="1092240" cy="1041480"/>
          </a:xfrm>
        </p:grpSpPr>
        <p:sp>
          <p:nvSpPr>
            <p:cNvPr id="65" name=""/>
            <p:cNvSpPr/>
            <p:nvPr/>
          </p:nvSpPr>
          <p:spPr>
            <a:xfrm>
              <a:off x="3009960" y="22860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06560" y="25653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542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472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6224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4196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274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62240" y="25905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886200" y="1676520"/>
            <a:ext cx="1752120" cy="1638360"/>
            <a:chOff x="3886200" y="1676520"/>
            <a:chExt cx="1752120" cy="1638360"/>
          </a:xfrm>
        </p:grpSpPr>
        <p:sp>
          <p:nvSpPr>
            <p:cNvPr id="75" name=""/>
            <p:cNvSpPr/>
            <p:nvPr/>
          </p:nvSpPr>
          <p:spPr>
            <a:xfrm>
              <a:off x="4736880" y="167652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9558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418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6640" y="28321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620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700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02120" y="19810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7344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08560" y="28069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07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33840" y="31370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65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6888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Math Congress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9193-83D3-4EBE-B244-11E8D1B622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2640" y="2057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44D0-41F4-4E67-80B8-A4E14F3899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Triangle Do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FE52-BE55-4754-A0A8-C907555945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evelop success criteria which will be used to provide descriptive feedback over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C1A8-C022-4D7D-A95F-D9441D01B9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7F7B-85D0-4445-AFA3-773550FD12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Mary</cp:lastModifiedBy>
  <dcterms:modified xsi:type="dcterms:W3CDTF">2011-08-08T21:29:06Z</dcterms:modified>
  <cp:revision>73</cp:revision>
  <dc:subject/>
  <dc:title>&lt;Title&gt;</dc:title>
</cp:coreProperties>
</file>